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E66-F961-4085-87D4-DF8CE03B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76C5-574A-47B1-B9E2-6B244469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BA4F-4CC0-4577-95FA-444A46E5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FB8-6657-4FB9-A3C4-6EBA7681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FFD5-14C2-491B-BE13-9F5591C4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838D-3BD2-4C99-8B16-040F4DA0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6AAB-5E5C-4EAB-A2AA-1C863F0E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B0CD-C77C-49C1-B567-0C190C32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9493-B3C3-42E6-96C3-B783F994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BE69-A693-4F4E-8127-52181C60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1E57E-018A-44E1-B996-3619B0A2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6C98-E4EB-4D3E-BC65-6202089D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A563-AC8C-44D8-B9E4-54F023E5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337F-05A2-41E4-B0D3-2F362AB6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AA92-299D-4689-B3E2-C77DBCF0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F6A5-752B-42DF-88B8-C75076ED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1E0D-BF55-4AE0-BF99-3AE358FF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D556-A3E2-4F39-88C1-780EAF58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A8E4-2875-48D3-935E-1FFAB0B0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A32D-F457-485E-935E-A3C6E418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4454-5BD0-4AFA-903E-CAE725DF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9F4-C353-4E0B-B813-EDE6DB7A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8C66-7850-4C5A-B65B-22BF9A72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B4A-14F4-4AAD-8FC8-31814947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D525-4E66-46F6-A05B-69B12FF2D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9171-5E21-4E54-955C-643CF2BEC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6840" y="456840"/>
            <a:ext cx="6291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3400" y="621036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0000"/>
                </a:solidFill>
                <a:latin typeface="Times New Roman"/>
              </a:rPr>
              <a:t>Département des Finances &amp; de l’Écon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sz="5400" spc="-1" strike="noStrike">
                <a:solidFill>
                  <a:srgbClr val="cc0000"/>
                </a:solidFill>
                <a:latin typeface="Times New Roman"/>
              </a:rPr>
              <a:t>European Banking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29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cc0000"/>
                </a:solidFill>
                <a:latin typeface="Times New Roman"/>
              </a:rPr>
              <a:t>Monaco, 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nce   : 28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onaco : 2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y       : 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K        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um : 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760" y="1828800"/>
            <a:ext cx="537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reak down b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tionality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096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D – Focu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sz="4400" spc="-1" strike="noStrike">
                <a:solidFill>
                  <a:srgbClr val="cc0000"/>
                </a:solidFill>
                <a:latin typeface="Arial"/>
              </a:rPr>
              <a:t>Banking activit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 – Banking activitie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2 credit instit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ubsidiaries or branches from Europea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UM  : 75 billion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. A close and long standing relationship with Franc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Monaco and France :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A monetary union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well before the euro zon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2 Implementation of the French banking regulation : CCLRF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3 licensing by French Committee 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CEC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1.4 Supervision by the French authoriti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Commission Banc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2. Monaco – part of the Euro zon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 Econom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 </a:t>
            </a:r>
            <a:br>
              <a:rPr sz="4000"/>
            </a:b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1 Monaco joined the Euro z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on 1.1.200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2 Monaco has recently joined SEPA   :    March 2009</a:t>
            </a:r>
            <a:br>
              <a:rPr sz="48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 – Monaco GDP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A – GDP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170028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600200"/>
            <a:ext cx="7848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DP 2007: 4,3 billion 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ound 15 % grow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DP  per capita : 60 K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ctors : 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de   : 16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nking and finance : 15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ort activities: 15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l Estate : 10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urism  : 10 %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38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 –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B – Monaco Budget </a:t>
            </a:r>
            <a:br>
              <a:rPr sz="4000"/>
            </a:b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 - Budge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Budget : 900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   :  75% of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: very strong soci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M€ in public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ublic deb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2008  :  + 4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0481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 – Monaco 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35 000 resi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Working population : 45.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k down by contine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: 92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continents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25Z</dcterms:created>
  <dc:creator> </dc:creator>
  <dc:description/>
  <dc:language>en-US</dc:language>
  <cp:lastModifiedBy>Service Informatique</cp:lastModifiedBy>
  <dcterms:modified xsi:type="dcterms:W3CDTF">2009-06-18T06:45:30Z</dcterms:modified>
  <cp:revision>118</cp:revision>
  <dc:subject/>
  <dc:title>Conférence des Ambassadeurs</dc:title>
</cp:coreProperties>
</file>